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1AF6-8BB7-4D32-A590-71112CB13521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5071-DF7E-479C-89C5-110044727E7E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C545-0A04-48BA-9E92-17EF8E7C7FBC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926B-32E9-4CBE-B94F-708E8670B976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73B3-0C59-413B-9244-6A0B8D4E79E7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46D5-57E8-4E35-874F-532815D21B8E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8F1D-C8FD-4C5C-A931-0AC5204E482A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72AC-DAF8-48B1-9C30-FC412D5231B6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D4D4-CCD1-4C48-9DC8-7ADFF3CC53D9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0411-397B-4062-AE56-84E8D207A8BC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076A-628F-4D2F-AAAE-25F28B34F1EE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A5B2-F0DA-4B0C-B6C9-AC1F5A629B13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0C84-09B4-43D8-A60C-DFF1E9621E07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2E1E-4AAB-40B7-A5F2-B8861F539D0A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E180-7DE1-4068-A2B1-0A9BD0D182B6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B080-47D3-4D95-BBE2-530531BCEE25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E573-97D6-41CD-9996-34F8DC8C7178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B5C6-B8D3-4744-A561-812DD93328E7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C2E3-326A-4ABB-8F2C-3FB0F3930C80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47A2-C427-4D44-BE03-D6C2085A3A8F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B060-ED03-4178-9A57-1106F24028CB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687F-6F59-4C04-AD25-49A2BB5C3A62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E1BE-D7BD-45FF-AA61-591F0BB40E8A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3579-CA55-4FC0-9FB9-B969BBF411E6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F0A4-649D-48A7-A5A6-EFAD01692776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C8F7-C18B-42FF-A7B7-C98E9F72AA1E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40B5-7F2C-42CA-B460-419DF113B3F5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60DB-5FFD-4193-9FD1-3AE99093167A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BA76-D23C-4682-8613-9B38CDF7AD75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77E0-FF24-4F43-9BCB-E161F9429571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7261-4636-43E8-AB25-1D329E90F45F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5210-6879-4669-B5A4-BE36DE67524D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B048-44A3-47CF-9F86-5D225D9BCC64}" type="slidenum">
              <a:rPr b="0" lang="en-N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E5B-8013-4E53-902C-8258BD0E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E87-58BC-479D-9BB6-CB8D1C42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F9D41-57E7-47E8-80C8-0029D376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48BB3-24BF-48C3-B8C7-E59262CD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9EB1D-7762-4145-A0AA-152606EC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7F690-5BB2-45F6-B590-EB08EF81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DBD61-AF3C-47D8-973E-0384E0DD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C6960-0CF3-4043-AEB3-5C54AA56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5E3D4-6AA7-432B-855D-B301AD73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44220-C87B-4DE5-8297-A7C80F80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DDBA4-D3FD-4AAA-939D-347BB36C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C0649-FCBF-4B4C-8B03-93AE8BD4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B7E-7D62-4AE1-A147-74B41BA7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A242E-ADD2-424B-A846-DAF7BF43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9CED7-6720-4EB7-8B3E-39A59889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CE37E-95F7-45D3-832C-8B950E9D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0D211-38C6-4A07-8355-D4514D4E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BB3FA-A47A-4770-8D7B-AD9BCF8D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526D4-7540-4112-9392-E7E474F7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E33B9-5129-4D8F-8872-519BA213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45CF7-A37A-47EF-BE0C-45B82F85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C8D4A-AEDF-4AFE-83A1-AC91FED2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26CCD-5B02-49DA-B5D9-1FF0D243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560-8198-48A0-B610-63980C43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97B71-9D9C-4054-BCED-BB8E9D20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0ED90-AA7B-4F43-9B60-0EE22747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8CA95-E63F-4110-8B74-E29C919D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2980C-4D51-44A1-9AAA-47C01233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2F756-63E1-4152-AC2A-8F832D8A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9407E-14BF-4415-917D-081A1723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2C804-5700-4E04-ACF6-937495B7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13D29-C212-4AC6-926F-51D28036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6F79F-F4DC-4462-875C-BE1549CA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8D649-6007-4B89-98E2-E44C3ABE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AA6E-2C33-4E0A-B34E-37514DB2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AC88B-2B17-46EC-8DCA-1DBE726D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79553-A425-4CA0-8072-21C0E124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AAD9E-274C-4557-8A00-95CA2558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77045-7F7F-4BF3-B58C-F0E04C10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A7D1F-3297-4B31-8DEB-80662815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8A395-5AD0-419B-BBDD-DB3C3DC0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DF7AC-0DAF-4870-8032-BFCC2D48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B4D60-D9E7-4DD0-8399-694A4B20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ADA41-64D9-4031-B1CF-B10644D1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842F2-4B07-41B6-B103-221FDAFF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F34E-9999-46A1-B1DD-B3CB71E8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61542-B2F6-4450-B76C-11DE9239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18CA8-A47B-4C22-A7B3-B3CD9548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9EF20-1E91-486A-AD11-770D9F6B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018B1-319C-4C20-9A26-BE8C8FE7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D93B4-C3A0-4E5A-926E-E1310C7E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C23F-7CE0-4B06-B3A8-FCE34E19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64F3-CE2C-4AD5-A2A4-4FF8C455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9372-A671-418D-8B60-F1BB1295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1DBB-E47B-4810-ADDA-903EB44C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834B-2F58-4109-85CF-0C0787C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4E1-A73B-402E-AC3D-3C967A06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4DC2-784B-4BBD-A9D0-06C52AE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F41A-6F27-4B13-989E-3A735CC9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A20A-CC22-4655-872A-3A7E83C7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D155-44ED-47B0-815A-71387340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4735-43C5-41AA-B899-7C91B198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DFE2-98E4-4899-ADF7-A0665E6E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6E20-DDBA-4545-8DF8-F0031F1D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0BC5-4C60-4865-BE52-1B1930BD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4F387-EF43-4327-9AF0-F1114A9E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0A6E-1799-4FE7-B3C2-A673807F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C0F-4A58-4760-AEB3-4A8DCC34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01F7-D2F2-4B76-839F-0B2E13A7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F61D-C304-433C-AB60-936EC409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8AA44-BC3C-475D-90A8-DE7EC029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D19B-283E-4913-9F5E-4129F7E9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7388-0315-4C2D-8357-41EF5CDA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1F2E-991A-4A37-A5D2-AA25CFD7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BA80-D6CC-47CC-A01C-920C4847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3999B-E28B-4592-BF21-984BBB94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89E1D-1C75-43C6-BBF1-CF4021EE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9D3B9-27A2-4E8C-8469-5C541373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390-F74C-41DA-8629-DEDCD547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0BE2-22C8-4756-B9F8-E44BC2C7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68200-6AF9-4444-A3CF-B93CE8A3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D5411-4522-4CD0-BECC-7B29E398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A41F-A424-4089-B816-557AB075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BD1F6-F6A7-4AAB-AAE0-22B45087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F5F43-126C-404F-AE10-2E2FD2F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0C9CD-7B00-4BDB-BB26-CA0371D1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F6E2-FFE9-437A-BFAE-881028A9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91F1-A45D-41F1-A102-C1B57F8B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9B52E-902E-4A56-B40C-54B07117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697-DA79-43EB-9C8E-0472155C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D356F-C86F-4C96-9B3A-6CCF911C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580DB-1F80-43FA-8A24-8F27ABD7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4D99-0EED-4B3C-9377-C30FDB8C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3F610-0BB0-46D2-8327-D7109E31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08153-7472-4462-9EA5-1391E57C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17B0C-F487-4364-874C-DC9BA6B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F2386-D214-463B-BEBB-6E7C74E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AF751-0302-43B0-916F-2C219951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B08B-2BA2-451E-9F84-4E34E1EC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8B477-C3C7-42C6-8978-1C3FBE6D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C4E-4899-415A-8080-41B67CEF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225E9-5F56-4189-9ADB-A0FD6DE2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B972A-FAFF-4D17-A0AA-117EB059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A0F80-A1D8-406A-A059-94645BC8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CE5AD-D37D-41DE-9E7C-80B6A542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9027C-8A79-4788-8F59-B10765E5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8DC9A-A3BC-490B-A193-18DE583D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64A40-A383-42F7-AB2C-2A5B2FA7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DF77F-FFB9-4891-B62A-5F39880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4760D-CB46-4150-8401-428A763F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B5D5C-2EC2-4FF1-873C-7570F7AC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9A9-6775-4803-A05B-E4D2191C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6132F-2B3F-47E5-93CE-76EDBE48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C52D1-5AF9-48FD-A295-6C41CB80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38519-5BB6-451B-8FD0-573DEA91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1A5A8-9091-4BF8-B81F-97520D09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F43BD-6717-4814-9D4C-8921109D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EF5E0-5301-42DE-80DE-B744C895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B8314-3313-405B-B965-E5754BDB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A2F22-69E9-4C06-B8E8-D61F7452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336DC-824C-4034-8C99-43423403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7564F-5299-4FEB-8E04-5CA1CC47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FFA-7216-4682-8CBA-DE82C63D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03D22-EE6C-4677-ABBF-55BB4553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8935B-879D-4FE5-8C46-F96E0F8D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846EF-298A-4215-A90C-8438D70C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1C368-BB01-4D1A-A96F-49B90289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3D675-D39D-471A-A093-0E5DC9A7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80027-C611-4944-807F-924DB815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EA03B-B97F-44BC-AB60-EB73B78E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202A6-017C-4AB7-81DA-BC15476F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11B0-4AD9-4FF2-A6BA-18CB2DF0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D84BE-FDBA-4980-8B39-1F41EF69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F3D-9DF5-4EAC-B22D-2D047708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E29DA-0812-4408-882C-3D7DE9A4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83233-10BE-4AB6-8DAC-4C6A9261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123A0-6D21-4A2A-B194-EA8343CF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8BCD9-E1F7-4CDA-84F7-B6FCD983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1D55B-B463-4130-AA09-996399A6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2B592-7766-4E2C-8351-56C11725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D8C13-7A7F-4A29-AA39-3EB26E31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2002C-7421-4B37-A92E-8370FD20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DC271-8097-42EF-81E7-05C3FC17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F8061-3442-4E84-B5A4-8386E203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E7CA-89AD-44DF-95ED-009375CB9A1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B834-071A-4DF9-BCCE-8B9442B019D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8F13-F4C4-47A6-B7BB-22F9AC6CB91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F223-2C01-4B62-8FD2-D345E321745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95E0-5645-4853-B22E-255E2B7F4F6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97D0-1817-4263-8EFE-C99A9216ECD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9FF-16B4-4762-A703-D2A9368BAB8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CAFF-E559-4B5B-B132-6FA4FD3E8AC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2CA3-FC34-4EA3-9E20-5EAF49820D4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0A40-C4EA-418D-A869-912C06ECA8C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179C-7750-4442-B353-5C455C2C059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60DC-2FC9-437A-B204-B14F5D44E04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5"/>
          <p:cNvSpPr/>
          <p:nvPr/>
        </p:nvSpPr>
        <p:spPr>
          <a:xfrm>
            <a:off x="0" y="0"/>
            <a:ext cx="8964720" cy="63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hemistry 2.7 (AS 90306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escribe oxidation-reduc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Questions may involve any of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the properties of common oxidants and reductants, and the products of their reac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ommon oxidants are limited to 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I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Cl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Fe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Mn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(aq)/H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Cr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(aq)/H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ommon reductants are limited to metals, C, CO, H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Fe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Br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I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, S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2,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(HSO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Properties are limited to appearance (colour and state), oxidation number (for polyatomic ions and single 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250920" y="189000"/>
            <a:ext cx="8893080" cy="65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oxidation number of an atom in a monatomic ion is the same as the charge on the 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.g. in Na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he oxidation number is +1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O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he oxidation number is -2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an ionic compound,  the ions have the same oxidation numbers as they would alo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.g. in Na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 the oxidation numbers are still +1 for Na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and -2 for O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250920" y="189000"/>
            <a:ext cx="8893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compounds each hydrogen atom usually has an oxidation number +1 (the exception is in the metal hydrides e.g.NaH where oxidation number of H= -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In compounds each oxygen atom has an oxidation number -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(except in peroxides e.g. 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ere O has ON of -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0"/>
            <a:ext cx="8893080" cy="62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molecule the sum of the oxidation numbers of all the atoms is zer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ing rules 3, 4 and 5 it is possible to calculate the oxidation numbers of all ato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g Find the oxidation number of S in 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2        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             O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2 x +1   +   1x ?   +   4 x -2 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=     2      +     ?     +     - 8     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ff"/>
                </a:solidFill>
                <a:latin typeface="Arial"/>
              </a:rPr>
              <a:t>Can you do the math to find ON of 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cc"/>
                </a:solidFill>
                <a:latin typeface="Symbol"/>
                <a:ea typeface="Symbol"/>
              </a:rPr>
              <a:t>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xidation number of S =  +8 - 2 =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+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6012000" y="3500280"/>
            <a:ext cx="2916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Tahoma"/>
              </a:rPr>
              <a:t>Hint ask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What’s the ON 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H in compounds? </a:t>
            </a:r>
            <a:r>
              <a:rPr b="1" lang="en-NZ" sz="2000" spc="-1" strike="noStrike">
                <a:solidFill>
                  <a:srgbClr val="ffffff"/>
                </a:solidFill>
                <a:latin typeface="Tahoma"/>
              </a:rPr>
              <a:t>(R3)</a:t>
            </a: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What’s the ON of O in compounds? </a:t>
            </a:r>
            <a:r>
              <a:rPr b="1" lang="en-NZ" sz="2000" spc="-1" strike="noStrike">
                <a:solidFill>
                  <a:srgbClr val="ffffff"/>
                </a:solidFill>
                <a:latin typeface="Tahoma"/>
              </a:rPr>
              <a:t>(R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ff00"/>
                </a:solidFill>
                <a:latin typeface="Tahoma"/>
              </a:rPr>
              <a:t>Then use these with </a:t>
            </a:r>
            <a:r>
              <a:rPr b="1" lang="en-NZ" sz="2000" spc="-1" strike="noStrike">
                <a:solidFill>
                  <a:srgbClr val="ffffff"/>
                </a:solidFill>
                <a:latin typeface="Tahoma"/>
              </a:rPr>
              <a:t>R5</a:t>
            </a:r>
            <a:r>
              <a:rPr b="0" lang="en-NZ" sz="2000" spc="-1" strike="noStrike">
                <a:solidFill>
                  <a:srgbClr val="00ff00"/>
                </a:solidFill>
                <a:latin typeface="Tahoma"/>
              </a:rPr>
              <a:t> to find the ON of S</a:t>
            </a:r>
            <a:r>
              <a:rPr b="0" lang="en-NZ" sz="20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4"/>
          <p:cNvSpPr/>
          <p:nvPr/>
        </p:nvSpPr>
        <p:spPr>
          <a:xfrm>
            <a:off x="755640" y="549360"/>
            <a:ext cx="813744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00"/>
                </a:solidFill>
                <a:latin typeface="Arial"/>
              </a:rPr>
              <a:t>Use the rule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find the oxidation numbers of the each atom in each of the following molec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,   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,  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NO,     </a:t>
            </a:r>
            <a:r>
              <a:rPr b="0" i="1" lang="en-NZ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,  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N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,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, 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Line 5"/>
          <p:cNvSpPr/>
          <p:nvPr/>
        </p:nvSpPr>
        <p:spPr>
          <a:xfrm flipV="1">
            <a:off x="755640" y="2133720"/>
            <a:ext cx="21600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24000" y="2781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1187280" y="2781360"/>
            <a:ext cx="8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Line 8"/>
          <p:cNvSpPr/>
          <p:nvPr/>
        </p:nvSpPr>
        <p:spPr>
          <a:xfrm flipH="1" flipV="1">
            <a:off x="1258560" y="2133720"/>
            <a:ext cx="144360" cy="57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Line 9"/>
          <p:cNvSpPr/>
          <p:nvPr/>
        </p:nvSpPr>
        <p:spPr>
          <a:xfrm flipV="1">
            <a:off x="2556000" y="2060640"/>
            <a:ext cx="21564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212400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2670120" y="2637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Line 12"/>
          <p:cNvSpPr/>
          <p:nvPr/>
        </p:nvSpPr>
        <p:spPr>
          <a:xfrm flipV="1">
            <a:off x="3059280" y="206028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Line 13"/>
          <p:cNvSpPr/>
          <p:nvPr/>
        </p:nvSpPr>
        <p:spPr>
          <a:xfrm flipH="1" flipV="1">
            <a:off x="3419640" y="2060280"/>
            <a:ext cx="14256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3348000" y="26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Line 15"/>
          <p:cNvSpPr/>
          <p:nvPr/>
        </p:nvSpPr>
        <p:spPr>
          <a:xfrm flipV="1">
            <a:off x="4500720" y="2060640"/>
            <a:ext cx="21564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6"/>
          <p:cNvSpPr/>
          <p:nvPr/>
        </p:nvSpPr>
        <p:spPr>
          <a:xfrm>
            <a:off x="4067280" y="2637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4932360" y="2637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Line 18"/>
          <p:cNvSpPr/>
          <p:nvPr/>
        </p:nvSpPr>
        <p:spPr>
          <a:xfrm flipH="1" flipV="1">
            <a:off x="5003640" y="2060640"/>
            <a:ext cx="144720" cy="57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Line 19"/>
          <p:cNvSpPr/>
          <p:nvPr/>
        </p:nvSpPr>
        <p:spPr>
          <a:xfrm flipV="1">
            <a:off x="7667640" y="2060640"/>
            <a:ext cx="73080" cy="504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738036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8101080" y="26370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Line 22"/>
          <p:cNvSpPr/>
          <p:nvPr/>
        </p:nvSpPr>
        <p:spPr>
          <a:xfrm flipH="1" flipV="1">
            <a:off x="8101080" y="2060280"/>
            <a:ext cx="21600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Line 25"/>
          <p:cNvSpPr/>
          <p:nvPr/>
        </p:nvSpPr>
        <p:spPr>
          <a:xfrm flipV="1">
            <a:off x="6227640" y="2133720"/>
            <a:ext cx="7308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6013440" y="2708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Line 27"/>
          <p:cNvSpPr/>
          <p:nvPr/>
        </p:nvSpPr>
        <p:spPr>
          <a:xfrm flipV="1">
            <a:off x="1619280" y="4653000"/>
            <a:ext cx="21600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8"/>
          <p:cNvSpPr/>
          <p:nvPr/>
        </p:nvSpPr>
        <p:spPr>
          <a:xfrm>
            <a:off x="183528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Line 29"/>
          <p:cNvSpPr/>
          <p:nvPr/>
        </p:nvSpPr>
        <p:spPr>
          <a:xfrm flipV="1">
            <a:off x="2122560" y="4652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Line 30"/>
          <p:cNvSpPr/>
          <p:nvPr/>
        </p:nvSpPr>
        <p:spPr>
          <a:xfrm flipH="1" flipV="1">
            <a:off x="2482560" y="4652640"/>
            <a:ext cx="142920" cy="576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31"/>
          <p:cNvSpPr/>
          <p:nvPr/>
        </p:nvSpPr>
        <p:spPr>
          <a:xfrm>
            <a:off x="133200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241128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Line 33"/>
          <p:cNvSpPr/>
          <p:nvPr/>
        </p:nvSpPr>
        <p:spPr>
          <a:xfrm flipV="1">
            <a:off x="3780000" y="4653000"/>
            <a:ext cx="7128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3419640" y="530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4211640" y="530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Line 36"/>
          <p:cNvSpPr/>
          <p:nvPr/>
        </p:nvSpPr>
        <p:spPr>
          <a:xfrm flipH="1" flipV="1">
            <a:off x="4282920" y="4653000"/>
            <a:ext cx="144720" cy="57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37"/>
          <p:cNvSpPr/>
          <p:nvPr/>
        </p:nvSpPr>
        <p:spPr>
          <a:xfrm>
            <a:off x="395280" y="5877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Note that the N atom has a different ON depending on which atoms it is bonded to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0" y="189000"/>
            <a:ext cx="8388360" cy="65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polyatomic ion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he sum of the oxidation numbers of all the atoms is equal to the charge on the 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the ion Cr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he oxidation number of Cr is calculated as follow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 x Cr +   7 x 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 x ?   +   7 x  -2   =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 x ?   +  -14   =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 x Cr  =  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Symbol"/>
                <a:ea typeface="Symbol"/>
              </a:rPr>
              <a:t>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xidation number of Cr =          =  +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5"/>
              <p:cNvSpPr txBox="1"/>
              <p:nvPr/>
            </p:nvSpPr>
            <p:spPr>
              <a:xfrm>
                <a:off x="4643280" y="5923080"/>
                <a:ext cx="7988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Line 7"/>
          <p:cNvSpPr/>
          <p:nvPr/>
        </p:nvSpPr>
        <p:spPr>
          <a:xfrm>
            <a:off x="2050920" y="3933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8"/>
          <p:cNvSpPr/>
          <p:nvPr/>
        </p:nvSpPr>
        <p:spPr>
          <a:xfrm>
            <a:off x="3780000" y="3933720"/>
            <a:ext cx="71280" cy="289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Oval 10"/>
          <p:cNvSpPr/>
          <p:nvPr/>
        </p:nvSpPr>
        <p:spPr>
          <a:xfrm>
            <a:off x="4500720" y="4076640"/>
            <a:ext cx="647640" cy="576360"/>
          </a:xfrm>
          <a:prstGeom prst="ellipse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12"/>
          <p:cNvSpPr/>
          <p:nvPr/>
        </p:nvSpPr>
        <p:spPr>
          <a:xfrm flipH="1">
            <a:off x="5148360" y="4076640"/>
            <a:ext cx="287280" cy="14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5580000" y="364500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00"/>
                </a:solidFill>
                <a:latin typeface="Tahoma"/>
              </a:rPr>
              <a:t>Charge on the polyatomic 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7020000" y="4869000"/>
            <a:ext cx="21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Note: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Oxidation numbers are always quoted </a:t>
            </a: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at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11160" y="4714920"/>
            <a:ext cx="20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ffff"/>
                </a:solidFill>
                <a:latin typeface="Arial"/>
              </a:rPr>
              <a:t>(+14 to B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4"/>
          <p:cNvSpPr/>
          <p:nvPr/>
        </p:nvSpPr>
        <p:spPr>
          <a:xfrm>
            <a:off x="0" y="0"/>
            <a:ext cx="896472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Calculate the oxidation number of S in each of the following 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AU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i="1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1692360" y="170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ahoma"/>
              </a:rPr>
              <a:t>S  +  (4 x -2) = -2</a:t>
            </a: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AU" sz="32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ON of S = +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1979640" y="2852640"/>
            <a:ext cx="60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S  +  (3 x -2) = -2 </a:t>
            </a:r>
            <a:r>
              <a:rPr b="1" lang="en-AU" sz="32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ON of S = +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1908000" y="4292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(2 x S)  +  (3 x -2) = -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ON of S = +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1692360" y="60930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4 x S  +  (6 x -2) = -2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00"/>
                </a:solidFill>
                <a:latin typeface="Tahoma"/>
              </a:rPr>
              <a:t>ON of S = +2.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1258920" y="1124280"/>
            <a:ext cx="648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An </a:t>
            </a: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increase in oxidation number</a:t>
            </a:r>
            <a:r>
              <a:rPr b="0" lang="en-AU" sz="3200" spc="-1" strike="noStrike">
                <a:solidFill>
                  <a:srgbClr val="ffff00"/>
                </a:solidFill>
                <a:latin typeface="Tahoma"/>
              </a:rPr>
              <a:t> corresponds to</a:t>
            </a: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 oxidation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00ff00"/>
                </a:solidFill>
                <a:latin typeface="Tahoma"/>
              </a:rPr>
              <a:t>A </a:t>
            </a:r>
            <a:r>
              <a:rPr b="1" lang="en-AU" sz="3200" spc="-1" strike="noStrike">
                <a:solidFill>
                  <a:srgbClr val="00ff00"/>
                </a:solidFill>
                <a:latin typeface="Tahoma"/>
              </a:rPr>
              <a:t>decrease in oxidation</a:t>
            </a:r>
            <a:r>
              <a:rPr b="0" lang="en-AU" sz="3200" spc="-1" strike="noStrike">
                <a:solidFill>
                  <a:srgbClr val="00ff00"/>
                </a:solidFill>
                <a:latin typeface="Tahoma"/>
              </a:rPr>
              <a:t> number corresponds to </a:t>
            </a:r>
            <a:r>
              <a:rPr b="1" lang="en-AU" sz="3200" spc="-1" strike="noStrike">
                <a:solidFill>
                  <a:srgbClr val="00ff00"/>
                </a:solidFill>
                <a:latin typeface="Tahoma"/>
              </a:rPr>
              <a:t>reduction</a:t>
            </a:r>
            <a:r>
              <a:rPr b="0" lang="en-AU" sz="3200" spc="-1" strike="noStrike">
                <a:solidFill>
                  <a:srgbClr val="00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574560" y="5516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ff"/>
                </a:solidFill>
                <a:latin typeface="Tahoma"/>
              </a:rPr>
              <a:t>This is an exceptionally important thing to remember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179280" y="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We now can identify which species is oxidised and which is reduced in a reaction by applying this fac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250920" y="189000"/>
            <a:ext cx="8604000" cy="61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By assigning oxidation numbers show which of the following reactions is not a redox re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(i)   CuCO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3   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 CuO   +   CO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(ii)  Cu   +   2AgNO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Cu(NO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+   2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(iii) Cr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i="1" lang="pl-P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pl-PL" sz="2400" spc="-1" strike="noStrike" baseline="30000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+    6Fe</a:t>
            </a:r>
            <a:r>
              <a:rPr b="0" i="1" lang="pl-PL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6Fe</a:t>
            </a:r>
            <a:r>
              <a:rPr b="0" i="1" lang="pl-PL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+   2Cr</a:t>
            </a:r>
            <a:r>
              <a:rPr b="0" i="1" lang="pl-PL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   +   7H</a:t>
            </a:r>
            <a:r>
              <a:rPr b="0" i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 flipV="1">
            <a:off x="503280" y="1630440"/>
            <a:ext cx="431640" cy="358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H="1" flipV="1">
            <a:off x="1655640" y="1630440"/>
            <a:ext cx="21600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Line 7"/>
          <p:cNvSpPr/>
          <p:nvPr/>
        </p:nvSpPr>
        <p:spPr>
          <a:xfrm flipV="1">
            <a:off x="1150920" y="1701720"/>
            <a:ext cx="21744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0" y="1917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790560" y="1989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1584360" y="18464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2232000" y="1917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4392720" y="177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Text Box 13"/>
          <p:cNvSpPr/>
          <p:nvPr/>
        </p:nvSpPr>
        <p:spPr>
          <a:xfrm>
            <a:off x="3743280" y="18464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14"/>
          <p:cNvSpPr/>
          <p:nvPr/>
        </p:nvSpPr>
        <p:spPr>
          <a:xfrm>
            <a:off x="3240000" y="191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Line 15"/>
          <p:cNvSpPr/>
          <p:nvPr/>
        </p:nvSpPr>
        <p:spPr>
          <a:xfrm flipV="1">
            <a:off x="2735280" y="1630440"/>
            <a:ext cx="21600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Line 16"/>
          <p:cNvSpPr/>
          <p:nvPr/>
        </p:nvSpPr>
        <p:spPr>
          <a:xfrm flipH="1" flipV="1">
            <a:off x="3384720" y="1701720"/>
            <a:ext cx="7128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Line 17"/>
          <p:cNvSpPr/>
          <p:nvPr/>
        </p:nvSpPr>
        <p:spPr>
          <a:xfrm flipH="1" flipV="1">
            <a:off x="4535640" y="1630440"/>
            <a:ext cx="7128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Line 18"/>
          <p:cNvSpPr/>
          <p:nvPr/>
        </p:nvSpPr>
        <p:spPr>
          <a:xfrm flipV="1">
            <a:off x="4175280" y="1630440"/>
            <a:ext cx="7272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Line 19"/>
          <p:cNvSpPr/>
          <p:nvPr/>
        </p:nvSpPr>
        <p:spPr>
          <a:xfrm flipV="1">
            <a:off x="682560" y="3212640"/>
            <a:ext cx="43200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Line 20"/>
          <p:cNvSpPr/>
          <p:nvPr/>
        </p:nvSpPr>
        <p:spPr>
          <a:xfrm flipV="1">
            <a:off x="2627280" y="3285720"/>
            <a:ext cx="7308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Line 21"/>
          <p:cNvSpPr/>
          <p:nvPr/>
        </p:nvSpPr>
        <p:spPr>
          <a:xfrm flipV="1">
            <a:off x="2050920" y="3284640"/>
            <a:ext cx="21744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Text Box 22"/>
          <p:cNvSpPr/>
          <p:nvPr/>
        </p:nvSpPr>
        <p:spPr>
          <a:xfrm>
            <a:off x="179280" y="3500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Text Box 23"/>
          <p:cNvSpPr/>
          <p:nvPr/>
        </p:nvSpPr>
        <p:spPr>
          <a:xfrm>
            <a:off x="1476360" y="3573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Text Box 24"/>
          <p:cNvSpPr/>
          <p:nvPr/>
        </p:nvSpPr>
        <p:spPr>
          <a:xfrm>
            <a:off x="2916360" y="3645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25"/>
          <p:cNvSpPr/>
          <p:nvPr/>
        </p:nvSpPr>
        <p:spPr>
          <a:xfrm>
            <a:off x="2340000" y="3645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Text Box 26"/>
          <p:cNvSpPr/>
          <p:nvPr/>
        </p:nvSpPr>
        <p:spPr>
          <a:xfrm>
            <a:off x="5003640" y="3500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Text Box 27"/>
          <p:cNvSpPr/>
          <p:nvPr/>
        </p:nvSpPr>
        <p:spPr>
          <a:xfrm>
            <a:off x="4284720" y="3645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Text Box 28"/>
          <p:cNvSpPr/>
          <p:nvPr/>
        </p:nvSpPr>
        <p:spPr>
          <a:xfrm>
            <a:off x="3564000" y="342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Line 29"/>
          <p:cNvSpPr/>
          <p:nvPr/>
        </p:nvSpPr>
        <p:spPr>
          <a:xfrm flipH="1" flipV="1">
            <a:off x="2987640" y="3284640"/>
            <a:ext cx="216000" cy="433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Line 30"/>
          <p:cNvSpPr/>
          <p:nvPr/>
        </p:nvSpPr>
        <p:spPr>
          <a:xfrm flipV="1">
            <a:off x="4067280" y="3284640"/>
            <a:ext cx="144360" cy="287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Line 31"/>
          <p:cNvSpPr/>
          <p:nvPr/>
        </p:nvSpPr>
        <p:spPr>
          <a:xfrm flipH="1" flipV="1">
            <a:off x="5003640" y="3212640"/>
            <a:ext cx="21600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Line 32"/>
          <p:cNvSpPr/>
          <p:nvPr/>
        </p:nvSpPr>
        <p:spPr>
          <a:xfrm flipV="1">
            <a:off x="4643280" y="3284640"/>
            <a:ext cx="73080" cy="433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Text Box 33"/>
          <p:cNvSpPr/>
          <p:nvPr/>
        </p:nvSpPr>
        <p:spPr>
          <a:xfrm>
            <a:off x="6227640" y="3500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Line 34"/>
          <p:cNvSpPr/>
          <p:nvPr/>
        </p:nvSpPr>
        <p:spPr>
          <a:xfrm flipH="1" flipV="1">
            <a:off x="6443640" y="3284280"/>
            <a:ext cx="21600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35"/>
          <p:cNvSpPr/>
          <p:nvPr/>
        </p:nvSpPr>
        <p:spPr>
          <a:xfrm>
            <a:off x="5364000" y="1268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Not a redox reaction no change in ON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Text Box 36"/>
          <p:cNvSpPr/>
          <p:nvPr/>
        </p:nvSpPr>
        <p:spPr>
          <a:xfrm>
            <a:off x="6948360" y="2708280"/>
            <a:ext cx="18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Ag reduc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Cu oxidi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Line 37"/>
          <p:cNvSpPr/>
          <p:nvPr/>
        </p:nvSpPr>
        <p:spPr>
          <a:xfrm flipV="1">
            <a:off x="503280" y="4870080"/>
            <a:ext cx="43164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38"/>
          <p:cNvSpPr/>
          <p:nvPr/>
        </p:nvSpPr>
        <p:spPr>
          <a:xfrm>
            <a:off x="-181080" y="515772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Line 39"/>
          <p:cNvSpPr/>
          <p:nvPr/>
        </p:nvSpPr>
        <p:spPr>
          <a:xfrm flipV="1">
            <a:off x="5761080" y="4870080"/>
            <a:ext cx="43164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 Box 40"/>
          <p:cNvSpPr/>
          <p:nvPr/>
        </p:nvSpPr>
        <p:spPr>
          <a:xfrm>
            <a:off x="5076720" y="515772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Line 41"/>
          <p:cNvSpPr/>
          <p:nvPr/>
        </p:nvSpPr>
        <p:spPr>
          <a:xfrm flipV="1">
            <a:off x="4392720" y="4941360"/>
            <a:ext cx="43164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Text Box 42"/>
          <p:cNvSpPr/>
          <p:nvPr/>
        </p:nvSpPr>
        <p:spPr>
          <a:xfrm>
            <a:off x="3708360" y="522936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Line 43"/>
          <p:cNvSpPr/>
          <p:nvPr/>
        </p:nvSpPr>
        <p:spPr>
          <a:xfrm flipV="1">
            <a:off x="2592360" y="4941360"/>
            <a:ext cx="432000" cy="35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44"/>
          <p:cNvSpPr/>
          <p:nvPr/>
        </p:nvSpPr>
        <p:spPr>
          <a:xfrm>
            <a:off x="1908000" y="522936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1" lang="en-NZ" sz="2400" spc="-1" strike="noStrike">
                <a:solidFill>
                  <a:srgbClr val="00ff00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Text Box 46"/>
          <p:cNvSpPr/>
          <p:nvPr/>
        </p:nvSpPr>
        <p:spPr>
          <a:xfrm>
            <a:off x="6372360" y="5373720"/>
            <a:ext cx="2771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ffff"/>
                </a:solidFill>
                <a:latin typeface="Arial"/>
              </a:rPr>
              <a:t>Cr</a:t>
            </a:r>
            <a:r>
              <a:rPr b="0" i="1" lang="pl-PL" sz="24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i="1" lang="pl-PL" sz="24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0" i="1" lang="pl-PL" sz="2400" spc="-1" strike="noStrike" baseline="-25000">
                <a:solidFill>
                  <a:srgbClr val="00ffff"/>
                </a:solidFill>
                <a:latin typeface="Arial"/>
              </a:rPr>
              <a:t>7</a:t>
            </a:r>
            <a:r>
              <a:rPr b="0" i="1" lang="pl-PL" sz="24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reduc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Fe </a:t>
            </a:r>
            <a:r>
              <a:rPr b="0" lang="en-NZ" sz="2400" spc="-1" strike="noStrike" baseline="30000">
                <a:solidFill>
                  <a:srgbClr val="00ffff"/>
                </a:solidFill>
                <a:latin typeface="Tahoma"/>
              </a:rPr>
              <a:t>2+</a:t>
            </a: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 oxidi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4"/>
          <p:cNvSpPr/>
          <p:nvPr/>
        </p:nvSpPr>
        <p:spPr>
          <a:xfrm>
            <a:off x="539640" y="1125360"/>
            <a:ext cx="792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Looks like you’ve mastered the whole assigning ON thing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Tahoma"/>
              </a:rPr>
              <a:t>Now it’s time to apply them in balancing more complex redox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5"/>
          <p:cNvSpPr/>
          <p:nvPr/>
        </p:nvSpPr>
        <p:spPr>
          <a:xfrm>
            <a:off x="0" y="33336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Balancing Redox Equ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following method for balancing more complex redox equations is commonly called the ion-electron half-equation metho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250920" y="2924280"/>
            <a:ext cx="667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*These are 6 more steps we must memor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This is all you need to memorize – hones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0"/>
            <a:ext cx="896472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hemistry 2.7 (AS 90306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escribe oxidation-reduc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Questions may involve any of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writing balanced oxidation–reduction equ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classifying balanced half-equations as oxidation or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identifying the oxidant and/or reductant from a given re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describing the ability of halogens to act as oxidants in reactions with other elements, water or halide 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Arial"/>
              </a:rPr>
              <a:t>principles of simple electrolytic ce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4"/>
          <p:cNvSpPr/>
          <p:nvPr/>
        </p:nvSpPr>
        <p:spPr>
          <a:xfrm>
            <a:off x="179280" y="260280"/>
            <a:ext cx="87138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00ff00"/>
                </a:solidFill>
                <a:uFillTx/>
                <a:latin typeface="Arial"/>
              </a:rPr>
              <a:t>Step 1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Identify the species undergoing oxidation and the species undergoing redu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member to use ON for thi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ffff"/>
                </a:solidFill>
                <a:latin typeface="Arial"/>
              </a:rPr>
              <a:t>The species that decreases in ON is reduc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ffff"/>
                </a:solidFill>
                <a:latin typeface="Arial"/>
              </a:rPr>
              <a:t>The species that increases in ON is oxidi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.g. when a solution of potassium dichromate reacts with iron II nitrate the species oxidised is Fe</a:t>
            </a:r>
            <a:r>
              <a:rPr b="0" lang="en-AU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and the species reduced is Cr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reactions are: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1" lang="en-AU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Fe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3+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 and    </a:t>
            </a:r>
            <a:r>
              <a:rPr b="1" lang="en-AU" sz="2400" spc="-1" strike="noStrike">
                <a:solidFill>
                  <a:srgbClr val="ff9900"/>
                </a:solidFill>
                <a:latin typeface="Arial"/>
              </a:rPr>
              <a:t>Cr</a:t>
            </a:r>
            <a:r>
              <a:rPr b="1" lang="en-AU" sz="24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AU" sz="2400" spc="-1" strike="noStrike" baseline="-25000">
                <a:solidFill>
                  <a:srgbClr val="ff9900"/>
                </a:solidFill>
                <a:latin typeface="Arial"/>
              </a:rPr>
              <a:t>7</a:t>
            </a:r>
            <a:r>
              <a:rPr b="1" lang="en-AU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9900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Cr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V="1">
            <a:off x="2987640" y="4581360"/>
            <a:ext cx="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2556000" y="5084640"/>
            <a:ext cx="2117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Symbol"/>
                <a:ea typeface="Symbol"/>
              </a:rPr>
              <a:t></a:t>
            </a: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xid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Line 8"/>
          <p:cNvSpPr/>
          <p:nvPr/>
        </p:nvSpPr>
        <p:spPr>
          <a:xfrm flipV="1">
            <a:off x="4211640" y="4581000"/>
            <a:ext cx="0" cy="57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Line 10"/>
          <p:cNvSpPr/>
          <p:nvPr/>
        </p:nvSpPr>
        <p:spPr>
          <a:xfrm flipV="1">
            <a:off x="5940360" y="4581360"/>
            <a:ext cx="0" cy="503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5651640" y="5084640"/>
            <a:ext cx="2404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+6             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Symbol"/>
                <a:ea typeface="Symbol"/>
              </a:rPr>
              <a:t></a:t>
            </a: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re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7523280" y="4581000"/>
            <a:ext cx="0" cy="57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4"/>
          <p:cNvSpPr/>
          <p:nvPr/>
        </p:nvSpPr>
        <p:spPr>
          <a:xfrm>
            <a:off x="0" y="260280"/>
            <a:ext cx="87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ff00"/>
                </a:solidFill>
                <a:uFillTx/>
                <a:latin typeface="Arial"/>
              </a:rPr>
              <a:t>Step 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Balance all atoms undergoing a change in oxidation number in each half equ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0" y="2349360"/>
            <a:ext cx="86756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ff00"/>
                </a:solidFill>
                <a:uFillTx/>
                <a:latin typeface="Arial"/>
              </a:rPr>
              <a:t>Step 3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Balance the number of O atoms by adding the appropriate number of water molec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d    Cr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+  </a:t>
            </a: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7H</a:t>
            </a:r>
            <a:r>
              <a:rPr b="1" lang="en-AU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0" y="4724280"/>
            <a:ext cx="9144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ff00"/>
                </a:solidFill>
                <a:uFillTx/>
                <a:latin typeface="Arial"/>
              </a:rPr>
              <a:t>Step 4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Balance the H atoms by adding H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and    Cr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14H</a:t>
            </a:r>
            <a:r>
              <a:rPr b="0" lang="en-AU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AU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7H</a:t>
            </a:r>
            <a:r>
              <a:rPr b="1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3348000" y="1341360"/>
            <a:ext cx="40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d    Cr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4"/>
          <p:cNvSpPr/>
          <p:nvPr/>
        </p:nvSpPr>
        <p:spPr>
          <a:xfrm>
            <a:off x="0" y="260280"/>
            <a:ext cx="8424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00ff00"/>
                </a:solidFill>
                <a:uFillTx/>
                <a:latin typeface="Arial"/>
              </a:rPr>
              <a:t>Step 5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Balance the charge by adding electrons, 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.  This gives 2 balanced half-equ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+ </a:t>
            </a: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AU" sz="2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3141720"/>
            <a:ext cx="83059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14H</a:t>
            </a:r>
            <a:r>
              <a:rPr b="1" lang="en-AU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en-AU" sz="2800" spc="-1" strike="noStrike">
                <a:solidFill>
                  <a:srgbClr val="00ffff"/>
                </a:solidFill>
                <a:latin typeface="Arial"/>
              </a:rPr>
              <a:t>6e</a:t>
            </a:r>
            <a:r>
              <a:rPr b="0" lang="en-AU" sz="2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+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7H</a:t>
            </a:r>
            <a:r>
              <a:rPr b="1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50920" y="115920"/>
            <a:ext cx="8893080" cy="68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00ff00"/>
                </a:solidFill>
                <a:uFillTx/>
                <a:latin typeface="Arial"/>
              </a:rPr>
              <a:t>Step 6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To obtain an overall balanced equation the 2 half equations must be added toge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efore doing this the equations may have to be </a:t>
            </a: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multiplied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o that the number of electrons in each half-equation is the same. In this way, the electrons will be eliminated in the final equ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Fe</a:t>
            </a:r>
            <a:r>
              <a:rPr b="0" lang="de-DE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+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s now    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6Fe</a:t>
            </a:r>
            <a:r>
              <a:rPr b="1" lang="de-DE" sz="24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  6Fe</a:t>
            </a:r>
            <a:r>
              <a:rPr b="1" lang="de-DE" sz="2400" spc="-1" strike="noStrike" baseline="30000">
                <a:solidFill>
                  <a:srgbClr val="ffff00"/>
                </a:solidFill>
                <a:latin typeface="Arial"/>
              </a:rPr>
              <a:t>3+</a:t>
            </a: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  +  6e</a:t>
            </a:r>
            <a:r>
              <a:rPr b="1" lang="en-AU" sz="24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Cr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Arial"/>
              </a:rPr>
              <a:t>7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r>
              <a:rPr b="1" lang="en-AU" sz="24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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 + 14H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+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 + 6e</a:t>
            </a:r>
            <a:r>
              <a:rPr b="1" lang="en-AU" sz="24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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ff00"/>
                </a:solidFill>
                <a:latin typeface="Symbol"/>
                <a:ea typeface="Symbol"/>
              </a:rPr>
              <a:t>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  2Cr</a:t>
            </a:r>
            <a:r>
              <a:rPr b="1" lang="en-AU" sz="2400" spc="-1" strike="noStrike" baseline="30000">
                <a:solidFill>
                  <a:srgbClr val="00ff00"/>
                </a:solidFill>
                <a:latin typeface="Arial"/>
              </a:rPr>
              <a:t>3+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  +  7H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0" lang="en-AU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ow combine both equations to give the final balanced redox equation – cancelling any electrons, H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 or H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inally check that the equation is balanced, particularly for charge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Line 6"/>
          <p:cNvSpPr/>
          <p:nvPr/>
        </p:nvSpPr>
        <p:spPr>
          <a:xfrm flipH="1">
            <a:off x="4284720" y="3357720"/>
            <a:ext cx="216000" cy="576000"/>
          </a:xfrm>
          <a:prstGeom prst="line">
            <a:avLst/>
          </a:prstGeom>
          <a:ln w="47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Line 7"/>
          <p:cNvSpPr/>
          <p:nvPr/>
        </p:nvSpPr>
        <p:spPr>
          <a:xfrm flipH="1">
            <a:off x="6516720" y="2852640"/>
            <a:ext cx="217440" cy="505080"/>
          </a:xfrm>
          <a:prstGeom prst="line">
            <a:avLst/>
          </a:prstGeom>
          <a:ln w="4752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324000" y="5373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(6 x 2) + (-2) + (14) = </a:t>
            </a:r>
            <a:r>
              <a:rPr b="1" lang="en-NZ" sz="2400" spc="-1" strike="noStrike" u="sng">
                <a:solidFill>
                  <a:srgbClr val="ffff00"/>
                </a:solidFill>
                <a:uFillTx/>
                <a:latin typeface="Tahoma"/>
              </a:rPr>
              <a:t>+24</a:t>
            </a: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4643280" y="5373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(2 x 3) + (6 x 3) = </a:t>
            </a:r>
            <a:r>
              <a:rPr b="1" lang="en-NZ" sz="2400" spc="-1" strike="noStrike" u="sng">
                <a:solidFill>
                  <a:srgbClr val="66ffff"/>
                </a:solidFill>
                <a:uFillTx/>
                <a:latin typeface="Tahoma"/>
              </a:rPr>
              <a:t>+24</a:t>
            </a:r>
            <a:r>
              <a:rPr b="0" lang="en-NZ" sz="2400" spc="-1" strike="noStrike">
                <a:solidFill>
                  <a:srgbClr val="66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468360" y="4797360"/>
            <a:ext cx="7921440" cy="560880"/>
          </a:xfrm>
          <a:prstGeom prst="rect">
            <a:avLst/>
          </a:prstGeom>
          <a:noFill/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6Fe</a:t>
            </a:r>
            <a:r>
              <a:rPr b="1" lang="pl-PL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+  Cr</a:t>
            </a:r>
            <a:r>
              <a:rPr b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pl-PL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1" lang="pl-P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+ 14H</a:t>
            </a:r>
            <a:r>
              <a:rPr b="1" lang="pl-PL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2Cr</a:t>
            </a:r>
            <a:r>
              <a:rPr b="1" lang="pl-PL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+  7H</a:t>
            </a:r>
            <a:r>
              <a:rPr b="1" lang="pl-P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  +  6Fe</a:t>
            </a:r>
            <a:r>
              <a:rPr b="1" lang="pl-PL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Text Box 11"/>
          <p:cNvSpPr/>
          <p:nvPr/>
        </p:nvSpPr>
        <p:spPr>
          <a:xfrm>
            <a:off x="2411280" y="649116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ext Box 12"/>
          <p:cNvSpPr/>
          <p:nvPr/>
        </p:nvSpPr>
        <p:spPr>
          <a:xfrm>
            <a:off x="7020000" y="23493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ffff"/>
                </a:solidFill>
                <a:latin typeface="Arial"/>
              </a:rPr>
              <a:t>(x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4"/>
          <p:cNvSpPr/>
          <p:nvPr/>
        </p:nvSpPr>
        <p:spPr>
          <a:xfrm>
            <a:off x="324000" y="260280"/>
            <a:ext cx="828036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ahoma"/>
              </a:rPr>
              <a:t>Question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 solution of  Fe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 is added to a solution of purple potassium permanganate (KM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) which went colourless showing that the Mn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ion had form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Using the steps for balancing redox equations  write the balanced redox equ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395280" y="3284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Hint – The Fe </a:t>
            </a:r>
            <a:r>
              <a:rPr b="0" lang="en-NZ" sz="2400" spc="-1" strike="noStrike" baseline="30000">
                <a:solidFill>
                  <a:srgbClr val="00ffff"/>
                </a:solidFill>
                <a:latin typeface="Tahoma"/>
              </a:rPr>
              <a:t>2+</a:t>
            </a: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 is oxidised to Fe </a:t>
            </a:r>
            <a:r>
              <a:rPr b="0" lang="en-NZ" sz="2400" spc="-1" strike="noStrike" baseline="30000">
                <a:solidFill>
                  <a:srgbClr val="00ffff"/>
                </a:solidFill>
                <a:latin typeface="Tahoma"/>
              </a:rPr>
              <a:t>3+</a:t>
            </a:r>
            <a:r>
              <a:rPr b="0" lang="en-NZ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Text Box 11"/>
          <p:cNvSpPr/>
          <p:nvPr/>
        </p:nvSpPr>
        <p:spPr>
          <a:xfrm>
            <a:off x="395280" y="587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Now turn to page 230 in your lab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4"/>
          <p:cNvSpPr/>
          <p:nvPr/>
        </p:nvSpPr>
        <p:spPr>
          <a:xfrm>
            <a:off x="539640" y="260280"/>
            <a:ext cx="7488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ommon oxidants and reduct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n colours of species – issue sheet to be colou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urn to page 236 in your lab book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              “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ore oxidan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Read the experiment carefu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4"/>
          <p:cNvSpPr/>
          <p:nvPr/>
        </p:nvSpPr>
        <p:spPr>
          <a:xfrm>
            <a:off x="539640" y="1557360"/>
            <a:ext cx="8137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Oxidant (aka oxidisng ag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An oxidant is the substance that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a______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electrons and is 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ff"/>
                </a:solidFill>
                <a:latin typeface="Tahoma"/>
              </a:rPr>
              <a:t>Oxidants and Reductants revis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684360" y="3645000"/>
            <a:ext cx="813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Reductant (aka reducing ag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A reductant  is the substance that </a:t>
            </a: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d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______ electrons and is 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5940360" y="2205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cce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276720" y="263700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reduc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6300720" y="429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on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3276720" y="4724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Tahoma"/>
              </a:rPr>
              <a:t>oxid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1"/>
          <p:cNvSpPr/>
          <p:nvPr/>
        </p:nvSpPr>
        <p:spPr>
          <a:xfrm>
            <a:off x="0" y="0"/>
            <a:ext cx="9144000" cy="70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Look at the Demo then Complete the foll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KM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is an oxidising agent and reacts with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is the colour of KM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reaction for the reduction of the KM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reaction for the oxidation of H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full redox reaction by combining both half equ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would you observe in the this reac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1"/>
          <p:cNvSpPr/>
          <p:nvPr/>
        </p:nvSpPr>
        <p:spPr>
          <a:xfrm>
            <a:off x="0" y="117360"/>
            <a:ext cx="9144000" cy="74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ahoma"/>
              </a:rPr>
              <a:t>Reactions of Halogens (has appeared in exams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Halogens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e.g. chlorine, Cl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(a yellow-green gas), bromine, Br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(an orange/brown liquid), and iodine, I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(a shiny black solid) are all reduced to their respective colourless halide ions, Cl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, Br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, I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order of oxidising strength is </a:t>
            </a:r>
            <a:r>
              <a:rPr b="1" lang="en-AU" sz="2400" spc="-1" strike="noStrike">
                <a:solidFill>
                  <a:srgbClr val="00ff00"/>
                </a:solidFill>
                <a:latin typeface="Tahoma"/>
              </a:rPr>
              <a:t>Cl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Tahoma"/>
              </a:rPr>
              <a:t>2 </a:t>
            </a:r>
            <a:r>
              <a:rPr b="1" lang="en-AU" sz="2400" spc="-1" strike="noStrike">
                <a:solidFill>
                  <a:srgbClr val="00ff00"/>
                </a:solidFill>
                <a:latin typeface="Tahoma"/>
              </a:rPr>
              <a:t>&gt; Br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00ff00"/>
                </a:solidFill>
                <a:latin typeface="Tahoma"/>
              </a:rPr>
              <a:t> &gt; I</a:t>
            </a:r>
            <a:r>
              <a:rPr b="1" lang="en-AU" sz="24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other words Cl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will oxidise Br- ions to form Br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reaction 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Cl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  + 2Br-     2Cl- + Br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  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(brown bromine appea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ut !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2Cl-    +  Br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          no reaction Why?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ny halogen is able to oxidise the halide ion from a weaker halogen e.g. Cl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can successfully oxidise I</a:t>
            </a:r>
            <a:r>
              <a:rPr b="0" lang="en-AU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to I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. But  I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cannot oxidise Cl</a:t>
            </a:r>
            <a:r>
              <a:rPr b="0" lang="en-AU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because it is weaker oxidising agent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61" name="Straight Arrow Connector 3"/>
          <p:cNvCxnSpPr/>
          <p:nvPr/>
        </p:nvCxnSpPr>
        <p:spPr>
          <a:xfrm>
            <a:off x="1785960" y="3714840"/>
            <a:ext cx="2865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62" name="Straight Arrow Connector 5"/>
          <p:cNvCxnSpPr/>
          <p:nvPr/>
        </p:nvCxnSpPr>
        <p:spPr>
          <a:xfrm>
            <a:off x="2071440" y="4785840"/>
            <a:ext cx="50076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"/>
          <p:cNvSpPr/>
          <p:nvPr/>
        </p:nvSpPr>
        <p:spPr>
          <a:xfrm>
            <a:off x="0" y="117360"/>
            <a:ext cx="914400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ow could you introduce Cl- ions into a solu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How could you introduce Br- ions into a solu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are the colours  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r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l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are the colours 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785880" y="428760"/>
            <a:ext cx="67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Comic Sans MS"/>
              </a:rPr>
              <a:t>Homework for the Holi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571680" y="3571920"/>
            <a:ext cx="792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Comic Sans MS"/>
              </a:rPr>
              <a:t>Complete at least Q’s 1, 2 and 3 page 73  from your text book, do more if you ca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642960" y="1643040"/>
            <a:ext cx="792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Comic Sans MS"/>
              </a:rPr>
              <a:t>Read Unit 18 pages 71 – 74 in your year </a:t>
            </a:r>
            <a:r>
              <a:rPr b="0" lang="en-NZ" sz="4000" spc="-1" strike="noStrike">
                <a:solidFill>
                  <a:srgbClr val="00ffff"/>
                </a:solidFill>
                <a:latin typeface="Comic Sans MS"/>
              </a:rPr>
              <a:t>12 Pathfinder Tex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"/>
          <p:cNvSpPr/>
          <p:nvPr/>
        </p:nvSpPr>
        <p:spPr>
          <a:xfrm>
            <a:off x="0" y="-5400"/>
            <a:ext cx="957276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QUESTION SEVEN 2.7 2005 ex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Group 17 elements, the halogens (F, Cl, Br, I) act as oxidants in rea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queous chlorine, Cl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q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, can react with a solution conta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odide ions,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q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Write balanced half-equations for the oxid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nd reduction reactions that occur bel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n use these to write a balanced equation for the over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xidation-reduction reaction that occu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xid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educ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verall equ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Use the balanced equation to predict expected observations for th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2879640"/>
                <a:tab algn="l" pos="3240000"/>
                <a:tab algn="l" pos="3600360"/>
                <a:tab algn="l" pos="3959280"/>
                <a:tab algn="l" pos="4319640"/>
                <a:tab algn="l" pos="4680000"/>
                <a:tab algn="l" pos="5040360"/>
                <a:tab algn="l" pos="5400720"/>
                <a:tab algn="l" pos="5759280"/>
                <a:tab algn="l" pos="6119640"/>
                <a:tab algn="l" pos="6472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reaction, and justify these observations by referring to the species involv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1744200" y="3786120"/>
            <a:ext cx="26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  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2I-          I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   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+ 2e-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66" name="Straight Arrow Connector 9"/>
          <p:cNvCxnSpPr/>
          <p:nvPr/>
        </p:nvCxnSpPr>
        <p:spPr>
          <a:xfrm>
            <a:off x="2428560" y="4000680"/>
            <a:ext cx="500760" cy="2160"/>
          </a:xfrm>
          <a:prstGeom prst="straightConnector1">
            <a:avLst/>
          </a:prstGeom>
          <a:ln w="34920">
            <a:solidFill>
              <a:srgbClr val="00ff00"/>
            </a:solidFill>
            <a:miter/>
            <a:tailEnd len="med" type="arrow" w="med"/>
          </a:ln>
        </p:spPr>
      </p:cxnSp>
      <p:sp>
        <p:nvSpPr>
          <p:cNvPr id="667" name="Rectangle 10"/>
          <p:cNvSpPr/>
          <p:nvPr/>
        </p:nvSpPr>
        <p:spPr>
          <a:xfrm>
            <a:off x="1948680" y="4143240"/>
            <a:ext cx="330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Cl</a:t>
            </a:r>
            <a:r>
              <a:rPr b="1" lang="en-AU" sz="24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 + 2e-         2Cl-        </a:t>
            </a:r>
            <a:r>
              <a:rPr b="1" lang="en-AU" sz="2400" spc="-1" strike="noStrike" baseline="-25000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68" name="Straight Arrow Connector 11"/>
          <p:cNvCxnSpPr/>
          <p:nvPr/>
        </p:nvCxnSpPr>
        <p:spPr>
          <a:xfrm>
            <a:off x="3285720" y="4428720"/>
            <a:ext cx="500760" cy="2520"/>
          </a:xfrm>
          <a:prstGeom prst="straightConnector1">
            <a:avLst/>
          </a:prstGeom>
          <a:ln w="34920">
            <a:solidFill>
              <a:srgbClr val="00ffff"/>
            </a:solidFill>
            <a:miter/>
            <a:tailEnd len="med" type="arrow" w="med"/>
          </a:ln>
        </p:spPr>
      </p:cxnSp>
      <p:sp>
        <p:nvSpPr>
          <p:cNvPr id="669" name="Rectangle 12"/>
          <p:cNvSpPr/>
          <p:nvPr/>
        </p:nvSpPr>
        <p:spPr>
          <a:xfrm>
            <a:off x="2061000" y="4857840"/>
            <a:ext cx="399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2I-  +  </a:t>
            </a: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Cl</a:t>
            </a:r>
            <a:r>
              <a:rPr b="1" lang="en-AU" sz="24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         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I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 </a:t>
            </a: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+  2Cl-        </a:t>
            </a:r>
            <a:r>
              <a:rPr b="1" lang="en-AU" sz="2400" spc="-1" strike="noStrike" baseline="-25000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670" name="Straight Arrow Connector 13"/>
          <p:cNvCxnSpPr/>
          <p:nvPr/>
        </p:nvCxnSpPr>
        <p:spPr>
          <a:xfrm>
            <a:off x="3357360" y="5143680"/>
            <a:ext cx="500760" cy="2160"/>
          </a:xfrm>
          <a:prstGeom prst="straightConnector1">
            <a:avLst/>
          </a:prstGeom>
          <a:ln w="34920">
            <a:solidFill>
              <a:srgbClr val="00ffff"/>
            </a:solidFill>
            <a:miter/>
            <a:tailEnd len="med" type="arrow" w="med"/>
          </a:ln>
        </p:spPr>
      </p:cxnSp>
      <p:sp>
        <p:nvSpPr>
          <p:cNvPr id="671" name="Straight Connector 15"/>
          <p:cNvSpPr/>
          <p:nvPr/>
        </p:nvSpPr>
        <p:spPr>
          <a:xfrm>
            <a:off x="2714040" y="4214880"/>
            <a:ext cx="214200" cy="285840"/>
          </a:xfrm>
          <a:prstGeom prst="line">
            <a:avLst/>
          </a:prstGeom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Straight Connector 17"/>
          <p:cNvSpPr/>
          <p:nvPr/>
        </p:nvSpPr>
        <p:spPr>
          <a:xfrm>
            <a:off x="3999960" y="3857760"/>
            <a:ext cx="214200" cy="285480"/>
          </a:xfrm>
          <a:prstGeom prst="line">
            <a:avLst/>
          </a:prstGeom>
          <a:ln w="442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Rectangle 18"/>
          <p:cNvSpPr/>
          <p:nvPr/>
        </p:nvSpPr>
        <p:spPr>
          <a:xfrm>
            <a:off x="138960" y="6027840"/>
            <a:ext cx="8786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Colourless Cl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 solution oxidises colourless I- ions to for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an orange/brown solution of iodine (I</a:t>
            </a:r>
            <a:r>
              <a:rPr b="1" lang="en-AU" sz="2400" spc="-1" strike="noStrike" baseline="-25000">
                <a:solidFill>
                  <a:srgbClr val="66ff33"/>
                </a:solidFill>
                <a:latin typeface="Tahoma"/>
              </a:rPr>
              <a:t>2</a:t>
            </a:r>
            <a:r>
              <a:rPr b="1" lang="en-AU" sz="2400" spc="-1" strike="noStrike">
                <a:solidFill>
                  <a:srgbClr val="66ff33"/>
                </a:solidFill>
                <a:latin typeface="Tahoma"/>
              </a:rPr>
              <a:t>)    </a:t>
            </a:r>
            <a:r>
              <a:rPr b="1" lang="en-AU" sz="2400" spc="-1" strike="noStrike">
                <a:solidFill>
                  <a:srgbClr val="00ffff"/>
                </a:solidFill>
                <a:latin typeface="Tahoma"/>
              </a:rPr>
              <a:t> (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1"/>
          <p:cNvSpPr/>
          <p:nvPr/>
        </p:nvSpPr>
        <p:spPr>
          <a:xfrm>
            <a:off x="0" y="0"/>
            <a:ext cx="9144000" cy="74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Look at the Demo then Complete the follow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(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7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)is an oxidising agent and reacts with NaH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 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(H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is the colour of 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7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reaction for the reduction of the 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7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reaction for the oxidation of H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NZ" sz="24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rite the full redox reaction by combining both half equ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 would you observe in the this reac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1"/>
          <p:cNvSpPr/>
          <p:nvPr/>
        </p:nvSpPr>
        <p:spPr>
          <a:xfrm>
            <a:off x="1428840" y="357120"/>
            <a:ext cx="4572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What’s occurring in this De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u  +  HN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2286000" y="2967120"/>
            <a:ext cx="4572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/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gas is bubbled through some acidified K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r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539640" y="692280"/>
            <a:ext cx="8353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OXIDATION - 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xidation was originally defined as a gain of  oxygen eg  Mg reacts with 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o form magnesium oxide, MgO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Mg(s)  +  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2MgO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324000" y="3860640"/>
            <a:ext cx="8569080" cy="17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mlarly reduction was the removal of oxygen e.g. CO reduces Fe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d produces Fe and CO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s)   +    3CO(g) 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2Fe(s)   +   3CO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5"/>
          <p:cNvSpPr/>
          <p:nvPr/>
        </p:nvSpPr>
        <p:spPr>
          <a:xfrm>
            <a:off x="250920" y="620640"/>
            <a:ext cx="889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wever scientists realised that not all redox reactions involved oxygen  e.g. the reaction of zinc metal with copper 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n(s)    +    Cu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aq)    </a:t>
            </a:r>
            <a:r>
              <a:rPr b="0" lang="en-AU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   Zn</a:t>
            </a:r>
            <a:r>
              <a:rPr b="0" lang="pl-PL" sz="2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(aq)    +     Cu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611280" y="285264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Do you remember doing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395280" y="3573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ff"/>
                </a:solidFill>
                <a:latin typeface="Tahoma"/>
              </a:rPr>
              <a:t>What metal is giving up its electrons and being oxidised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179280" y="4797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Tahoma"/>
              </a:rPr>
              <a:t>What metal ion is accepting these electrons and being reduced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250920" y="609300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b0b0"/>
                </a:solidFill>
                <a:latin typeface="Tahoma"/>
              </a:rPr>
              <a:t>What did you observ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6"/>
          <p:cNvSpPr/>
          <p:nvPr/>
        </p:nvSpPr>
        <p:spPr>
          <a:xfrm>
            <a:off x="0" y="549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ahoma"/>
              </a:rPr>
              <a:t>So the Definition of oxidation/reduction now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22766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 oxidation-reduction reaction (or </a:t>
            </a:r>
            <a:r>
              <a:rPr b="0" lang="en-AU" sz="3200" spc="-1" strike="noStrike">
                <a:solidFill>
                  <a:srgbClr val="00ff00"/>
                </a:solidFill>
                <a:latin typeface="Tahoma"/>
              </a:rPr>
              <a:t>redox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reaction) is one that involves the </a:t>
            </a:r>
            <a:r>
              <a:rPr b="0" lang="en-AU" sz="3200" spc="-1" strike="noStrike">
                <a:solidFill>
                  <a:srgbClr val="00ff00"/>
                </a:solidFill>
                <a:latin typeface="Tahoma"/>
              </a:rPr>
              <a:t>transfer of electrons from one species to an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4"/>
          <p:cNvSpPr/>
          <p:nvPr/>
        </p:nvSpPr>
        <p:spPr>
          <a:xfrm>
            <a:off x="250920" y="404640"/>
            <a:ext cx="889308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"/>
              </a:rPr>
              <a:t>In the reaction below the Zn metal has been oxidised as it has lost electron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66ff33"/>
                </a:solidFill>
                <a:latin typeface="Arial"/>
              </a:rPr>
              <a:t>and the Cu</a:t>
            </a:r>
            <a:r>
              <a:rPr b="0" lang="en-AU" sz="2800" spc="-1" strike="noStrike" baseline="30000">
                <a:solidFill>
                  <a:srgbClr val="66ff33"/>
                </a:solidFill>
                <a:latin typeface="Arial"/>
              </a:rPr>
              <a:t>2+ </a:t>
            </a:r>
            <a:r>
              <a:rPr b="0" lang="en-AU" sz="2800" spc="-1" strike="noStrike">
                <a:solidFill>
                  <a:srgbClr val="66ff33"/>
                </a:solidFill>
                <a:latin typeface="Arial"/>
              </a:rPr>
              <a:t> has been reduced as it has gained electr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1.   Zn   </a:t>
            </a:r>
            <a:r>
              <a:rPr b="0" lang="en-AU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 Zn</a:t>
            </a:r>
            <a:r>
              <a:rPr b="0" lang="de-DE" sz="2800" spc="-1" strike="noStrike" baseline="30000">
                <a:solidFill>
                  <a:srgbClr val="ffff00"/>
                </a:solidFill>
                <a:latin typeface="Arial"/>
              </a:rPr>
              <a:t>2+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  +    2e</a:t>
            </a:r>
            <a:r>
              <a:rPr b="0" lang="en-AU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Cu</a:t>
            </a:r>
            <a:r>
              <a:rPr b="0" lang="de-DE" sz="2800" spc="-1" strike="noStrike" baseline="30000">
                <a:solidFill>
                  <a:srgbClr val="00ff00"/>
                </a:solidFill>
                <a:latin typeface="Arial"/>
              </a:rPr>
              <a:t>2+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   +     2e</a:t>
            </a:r>
            <a:r>
              <a:rPr b="0" lang="en-AU" sz="2800" spc="-1" strike="noStrike" baseline="30000">
                <a:solidFill>
                  <a:srgbClr val="00ff00"/>
                </a:solidFill>
                <a:latin typeface="Symbol"/>
                <a:ea typeface="Symbol"/>
              </a:rPr>
              <a:t>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00ff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ff00"/>
                </a:solidFill>
                <a:latin typeface="Arial"/>
              </a:rPr>
              <a:t>  C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member  mnemonic -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IL      R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xidation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ss    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duction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5724360" y="1844640"/>
            <a:ext cx="20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Oxidation (loss of e’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5796000" y="3141720"/>
            <a:ext cx="25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(gain of e’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324000" y="189000"/>
            <a:ext cx="8280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Oxidatio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A useful tool in recognising redox reactions, and  for determining what is being oxidised and what is reduced in a reaction, involves the use of 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oxidatio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357120" y="2643120"/>
            <a:ext cx="7991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he oxidation number (symbol ON) describes the “degree” to which an element has been oxidised or redu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Chemists have developed a number of rules </a:t>
            </a:r>
            <a:r>
              <a:rPr b="1" lang="en-NZ" sz="2800" spc="-1" strike="noStrike" u="sng">
                <a:solidFill>
                  <a:srgbClr val="ffff00"/>
                </a:solidFill>
                <a:uFillTx/>
                <a:latin typeface="Tahoma"/>
              </a:rPr>
              <a:t>you must learn</a:t>
            </a:r>
            <a:r>
              <a:rPr b="0" lang="en-NZ" sz="2800" spc="-1" strike="noStrike">
                <a:solidFill>
                  <a:srgbClr val="ffff00"/>
                </a:solidFill>
                <a:latin typeface="Tahoma"/>
              </a:rPr>
              <a:t> for assigning oxidatio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Text Box 14"/>
          <p:cNvSpPr/>
          <p:nvPr/>
        </p:nvSpPr>
        <p:spPr>
          <a:xfrm>
            <a:off x="428760" y="550080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Note: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Oxidation numbers are always quoted </a:t>
            </a: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ato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250920" y="189000"/>
            <a:ext cx="889308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Oxidation number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oxidation number (or state) is a number that can be assigned to each atom in an element, compound or ion, using a set of 6 ru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800" spc="-1" strike="noStrike">
                <a:solidFill>
                  <a:srgbClr val="00ff00"/>
                </a:solidFill>
                <a:latin typeface="Arial"/>
              </a:rPr>
              <a:t>These rules are as follow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AU" sz="3200" spc="-1" strike="noStrike">
                <a:solidFill>
                  <a:srgbClr val="ffff00"/>
                </a:solidFill>
                <a:latin typeface="Arial"/>
              </a:rPr>
              <a:t>Rule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oxidation number of an atom in any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element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zero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r example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</a:t>
            </a:r>
            <a:r>
              <a:rPr b="0" lang="en-A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the oxidation number of H is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684360" y="5305320"/>
            <a:ext cx="763272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oxidation number of C in  carbon is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oxidation of Mg in a piece of Mg is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The oxidation number of O in O</a:t>
            </a:r>
            <a:r>
              <a:rPr b="0" lang="en-NZ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 is 0 ..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7:35:56Z</dcterms:created>
  <dc:creator>Ministry of Education</dc:creator>
  <dc:description/>
  <dc:language>en-US</dc:language>
  <cp:lastModifiedBy>David</cp:lastModifiedBy>
  <dcterms:modified xsi:type="dcterms:W3CDTF">2010-09-23T09:20:35Z</dcterms:modified>
  <cp:revision>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